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A95-B01E-4C38-AC3B-AB3ECD5F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8CD-7432-4002-8590-DE3C2BA8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F5B6-98D6-42D3-BF90-6BC2E336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C2E-4D9F-4E98-B8C9-CACC6A60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A15-5402-46F5-8F81-F100C2A8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7CD-D7E5-47F8-B38B-0D27A1CC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130-4ABF-4486-8B79-475469BD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D4AB-E292-4A5D-A116-A3C36753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6F1D-F01E-491B-B4A2-83482120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2687-D4AC-48E7-A40B-C85BA963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619-CF8F-47DD-9835-090E48BD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28BE-6B6D-48E0-8313-27B5A89D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CF32-52D8-4E6E-9682-FED237839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743200" cy="547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48320" y="4038480"/>
            <a:ext cx="838080" cy="1676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4159080" y="4476600"/>
            <a:ext cx="180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DS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t matching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4038480"/>
            <a:ext cx="838080" cy="1676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3307320" y="4546080"/>
            <a:ext cx="167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RAM Bfly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read mac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31760" y="3276720"/>
            <a:ext cx="182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rray leak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152960" y="2781360"/>
            <a:ext cx="838080" cy="1676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1219320"/>
            <a:ext cx="457200" cy="1752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1219320"/>
            <a:ext cx="914400" cy="914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2133720"/>
            <a:ext cx="533520" cy="914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143000"/>
            <a:ext cx="304920" cy="914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2133720"/>
            <a:ext cx="685800" cy="914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2971800"/>
            <a:ext cx="457200" cy="228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48320" y="4038480"/>
            <a:ext cx="83808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4142160" y="4547520"/>
            <a:ext cx="17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wm_vtmm_macro_fdsoi180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4038480"/>
            <a:ext cx="83808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3261960" y="45860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wm_bfly_macro_fdsoi18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3276720"/>
            <a:ext cx="16761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wm_alm_macro_fdsoi18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4152960" y="2781360"/>
            <a:ext cx="8380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1219320"/>
            <a:ext cx="4572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219320"/>
            <a:ext cx="9144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2133720"/>
            <a:ext cx="533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1143000"/>
            <a:ext cx="3045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2133720"/>
            <a:ext cx="6858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2971800"/>
            <a:ext cx="457200" cy="228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160" y="380880"/>
            <a:ext cx="33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n Chip block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68160" y="16765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G_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1981080"/>
            <a:ext cx="533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92600" y="25146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fb_a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767840" y="1505880"/>
            <a:ext cx="9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Yw_buck_fi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3074400" y="2054880"/>
            <a:ext cx="170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c_topLevelNBTI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63760" y="2590920"/>
            <a:ext cx="13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c_inv_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28954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209520"/>
            <a:ext cx="670572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7:54:19Z</dcterms:created>
  <dc:creator>rmann</dc:creator>
  <dc:description/>
  <dc:language>en-US</dc:language>
  <cp:lastModifiedBy>rmann</cp:lastModifiedBy>
  <dcterms:modified xsi:type="dcterms:W3CDTF">2010-05-11T14:23:32Z</dcterms:modified>
  <cp:revision>6</cp:revision>
  <dc:subject/>
  <dc:title>Slide 1</dc:title>
</cp:coreProperties>
</file>